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7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23.png" ContentType="image/png"/>
  <Override PartName="/ppt/media/image18.png" ContentType="image/png"/>
  <Override PartName="/ppt/media/image7.jpeg" ContentType="image/jpeg"/>
  <Override PartName="/ppt/media/image31.wmf" ContentType="image/x-wmf"/>
  <Override PartName="/ppt/media/image11.png" ContentType="image/png"/>
  <Override PartName="/ppt/media/image6.png" ContentType="image/png"/>
  <Override PartName="/ppt/media/image9.png" ContentType="image/png"/>
  <Override PartName="/ppt/media/image12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0.png" ContentType="image/png"/>
  <Override PartName="/ppt/media/image2.jpeg" ContentType="image/jpeg"/>
  <Override PartName="/ppt/media/image30.png" ContentType="image/png"/>
  <Override PartName="/ppt/media/image28.wmf" ContentType="image/x-wmf"/>
  <Override PartName="/ppt/media/image10.png" ContentType="image/pn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9.png" ContentType="image/png"/>
  <Override PartName="/ppt/media/image29.png" ContentType="image/png"/>
  <Override PartName="/ppt/media/image21.jpeg" ContentType="image/jpeg"/>
  <Override PartName="/ppt/media/image2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4AFB-2DC4-44D1-85BE-FCCF6F8BC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410F-A320-467E-B9DF-C2677D833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BF1F3F-ABD0-4125-8FB2-2B03B4D00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526CD5-EA2F-4B52-B06B-C289CFF86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B43169-186B-4BF2-AB67-DFC713677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52A11F-E16C-49A0-98FB-341CC0EE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F3721B-6FBD-434A-9AFE-6DC6FC4C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01F569-C9E8-48C4-A043-EBAF730E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11C4D5-4DCC-4DA4-BA92-9519028A9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E58B0F-006C-44A5-BC25-A074FDE6C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28CB2E-1FEF-4469-A585-46BE669A8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B80421-9ED4-434B-8689-E939C9443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207A-93B7-4AE8-B8E4-78C418111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B4756B-856B-474C-A938-C3501882F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8F06D8-A794-433C-9F7D-80EE1BEB7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CA9340-0698-47CF-A2B9-CC6D03808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E911A3-C5BA-4CD7-AD8A-341EDEE5D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FC8993-B910-4083-802D-96BBE7213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615E1C-C41E-4E83-ABC4-262A77A6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2019D0-4E1D-4493-BDF0-89BF1DEF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535F21-AAB7-4D60-85B5-43615BEF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C06F2A-D80C-4F34-9F9A-48B13AE52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D48560-AB89-499E-98F8-FDD525A45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D4D5-F078-431D-82C6-063F3FF8E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FC66FC-0032-404A-B2C0-1AB5CF9A2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AEDC5D-8367-492C-B6E9-936F76548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095C2A-DB24-4CE0-B479-461310AA5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F6E569-A38F-4EE7-83C3-C3A230DA5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FB4504-9A12-4FBC-9F43-E6DA9E5AA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44F8C2-11E7-40AD-A624-B202522E8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0E390B-F768-4761-B79B-433B792BF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39F184-AD6F-4AE8-A5D2-91D35A3A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7F9A85-C067-456E-B9E9-E8684DD5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E5365F-DA51-46CC-88C3-60ED5417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4DD05-8D55-4A15-9D92-523B03502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40C7A8-8BFC-408A-B913-EE20B0370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D4648D-A8E9-4492-9A16-64DEB062A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93DB5F-8231-421E-ABA3-C1EE355E8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D49769-CE37-4D36-B8F4-02562AC9C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131163-D31B-4490-838F-91A22A16D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BF19B9-216D-41AE-9ABA-917C23FC9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F0A90E-130A-4ACE-9BCD-46D83CBA7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CA2242-8DD4-4E24-AFEA-1D256167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56C1B9-553A-4FD4-ABDB-84C02F72A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57608A-9531-4E7A-9E38-A991390A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FA8EB-72A4-4C11-BECA-B36B74EA8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53E362-E819-4767-88C0-C8175BC5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AE5AAC-3776-4229-B0AE-29F3BB2A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B0D35C-5147-4C29-A7BD-15EAF4F03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8EB2ED-330D-48CA-B685-385FAAD67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4A9E0A-4C4D-4098-AD10-15D73E625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5E7BB-D9A0-495C-9C13-862119CBA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B22D1-DC70-4FA1-987E-143CD165D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8DF69-D26F-441E-A332-907B39CB5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B2196-B4CE-4BBA-8483-3F5BEDCED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958D7-C9FE-4C84-A847-5F8924B3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C724-0A57-4A0C-A583-245F980B4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03577-CDD0-4B5B-8018-CBFF7B0F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2E32D-398B-4139-B1D3-8497D9A3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9FC40-E26B-411C-A880-18E7D95C8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160F6-06AF-4222-A61C-A4C2A25EF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D08F2-0FB0-4328-8B6D-E2F808EE5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912BA-59FB-4E34-AC25-369114348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E60F7-65BE-412C-9443-754F7BD48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E4CE0-0CD5-434E-85C2-FDFF08FB7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E138B-45E6-422F-AA40-B5B80B9A5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F7F5D-3378-4BD5-BB04-3AA00D4ED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74B1-478E-4088-A219-1F161B694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1114B-75B1-426B-AE68-141858D81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80969-9290-4DDA-905A-EE398BAF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A998E-2681-4E4C-94D6-F1DDB19D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90000-332D-48F3-9A2F-539FB38E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FCB60-EC9E-43B6-9A77-868CB7B77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26A41-C981-416E-89F8-93509722B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9F8E6-082A-4DDB-9986-69B00DC27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A17A5-A775-47A8-8752-73CB54744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A17DB-5B3E-4CC3-B4DF-94E2EF6BB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F836B-86EF-42DB-B066-26FDE4195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FD59-63F5-4633-86EE-798D7D4D1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3747A-1AA1-4A7B-81E3-09ECEF2BB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6FB64-AC0A-4321-8592-C357B9694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2E838-86CD-41E0-B6EA-3DA33BB23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A9124-B448-41C3-8A82-82F699D5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19BFC-27CA-4E3F-9BAA-62E1D64A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29994-0007-4EC2-9012-87B350BE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EA445-0FE1-4A1F-9EF4-6CD115830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90119-854A-4B94-9750-E5E138AAD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D3B3E-187F-4EDE-A1C3-2D319FDDE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9894B-C874-4BF0-B207-0AE12034D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13E1-8260-49C1-A201-84B0A148D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BDAB3-A05C-4741-97BA-2E3225601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AAF46-34CF-4AC5-9F03-1CBFA9C84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22375-7BC6-493B-9625-4100E8DDC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E5A9B-EE4C-43A3-A7CD-9629A0F95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50873-2C2D-4B1F-99D0-5AF2A563B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08816-83B0-4149-8081-499FE40C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17DA0-1002-486A-A0BE-A2E695AC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1FF70-EECD-4803-9229-378DC178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C2EF9-6741-48CA-86E7-1E4DE105B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60F9A-ED98-48F5-A107-5842E7FEC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31FE-1130-4AB6-BEC5-E8706F7A6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8DD6C-A4B1-4FF6-B81F-BF56020EF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827AC-96B7-4B5A-874D-671BF4E63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E9C5E-6A90-4854-B683-7AF3CD8B2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0590A-A451-485A-8DB2-8F139B81F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F4BA0-AD7F-4799-934D-E66BF103D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11B93-ABE3-475D-9A57-05EDC95B0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88F874-530C-4393-ABC6-B913AAC53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E8C61-67E0-4A21-A518-7FFE2D8E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09240-6E98-4B7F-8002-72A9892A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8BE35-17ED-4709-A0E1-C54F3481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4279-05D7-484C-9C0B-D1D094CB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31034-EEFE-4D93-8DB9-CEB893C3C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E16EAC-A81A-4033-A821-BDB33E3B5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6AA31-C352-41C9-903E-1E3842B77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49A47B-BB50-49F8-88D4-32B1F26C8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FB8ED0-0037-45FE-A838-77D97F6F4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22468-292E-4EB1-BD35-EB9C32FC7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B86657-EBCB-49C4-8542-08CCFB9B6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1D7712-88D1-498A-8552-A35B58A3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E0F1A-DCF7-4FBD-AF05-F912F4D45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55A32-D921-4912-844F-6E25DC95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4B80-6C1B-4583-AE7C-05DAAB80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F8576-BF60-41C0-B55D-E4CBD20B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AEA8B-2E76-4F41-AD7E-6F1A73C6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99554-ECEC-4BFD-A204-F1FF55CBF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9CEB74-0189-4E4A-9FA7-5C2D5F375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1E9B6D-7F82-4F71-B988-A3B630B77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561BBB-91EB-4071-8F35-F81DE1614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7F096D-AC21-427C-856A-1E6A03BCA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089DA-914E-49CA-B210-3E4A6B47C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AFCC2C-A83A-4DF6-B66F-B80B09CBC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A37826-B7EC-4C33-9AD0-52E4B7B55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FACE-67C1-4F60-8C20-2EA8BAEC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2A1FD2-D6DC-48FE-A342-0230BE1AD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756923-3842-42AE-85DA-8BAD7322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009CC0-3A40-4B4C-AD33-AA263D6D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464920-80D2-4685-BC9F-8BA81268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A54406-DAF4-4ACA-988C-FF5EEE602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14F0FC-8B76-4DC8-B2F7-F3644BC54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C36DE6-A129-48C8-A17B-0F6B3B2E7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87CC8D-5B6F-4860-9B4D-62F7F1C4C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DF9389-F2FF-4044-885A-C490195E0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29426B-DC80-4A3A-A689-F112F2928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EE0E9-E98F-42C7-800F-E48B001A0BB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387" name="Slika 7" descr=""/>
          <p:cNvPicPr/>
          <p:nvPr/>
        </p:nvPicPr>
        <p:blipFill>
          <a:blip r:embed="rId4"/>
          <a:stretch/>
        </p:blipFill>
        <p:spPr>
          <a:xfrm>
            <a:off x="0" y="-23760"/>
            <a:ext cx="9144000" cy="71892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78C3B-85FC-40FC-9C2F-1C0718CB300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430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EBF90-4836-4ECC-8A6A-72715FAA5F7A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473" name="Slika 7" descr=""/>
          <p:cNvPicPr/>
          <p:nvPr/>
        </p:nvPicPr>
        <p:blipFill>
          <a:blip r:embed="rId4"/>
          <a:stretch/>
        </p:blipFill>
        <p:spPr>
          <a:xfrm>
            <a:off x="0" y="-1440"/>
            <a:ext cx="9144000" cy="71892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45529-4CF9-4B83-ABE1-DDFF639670DC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43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DABA0-C70A-4EF1-87B0-E1237C045F13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86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AE6DE-A52C-4D31-ADA5-0B3BFD638BD8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129" name="Slika 7" descr=""/>
          <p:cNvPicPr/>
          <p:nvPr/>
        </p:nvPicPr>
        <p:blipFill>
          <a:blip r:embed="rId4"/>
          <a:stretch/>
        </p:blipFill>
        <p:spPr>
          <a:xfrm>
            <a:off x="-144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69C93-3595-4BFE-8CDF-40E7446EB877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172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1203C-E5CB-4D20-A161-EF6B17B4E61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215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0B90C-FEBD-4AB0-9824-9D1FF0940176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258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A39B1-9D83-48C6-9A0E-6EE2C14F8068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301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ED783-98D3-4285-933C-5F7348A713DC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344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448E1-FCC9-4FE7-A95C-950D2DD80B7A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3324"/>
                </a:solidFill>
                <a:latin typeface="Arial"/>
                <a:ea typeface="Arial"/>
              </a:rPr>
              <a:t>Mjerimo duljinu</a:t>
            </a:r>
            <a:br>
              <a:rPr sz="4400"/>
            </a:br>
            <a:r>
              <a:rPr b="1" lang="hr-HR" sz="4400" spc="-1" strike="noStrike">
                <a:solidFill>
                  <a:srgbClr val="fc3324"/>
                </a:solidFill>
                <a:latin typeface="Arial"/>
                <a:ea typeface="Arial"/>
              </a:rPr>
              <a:t>Mjerimo površin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4648320" y="5714640"/>
            <a:ext cx="44956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3324"/>
                </a:solidFill>
                <a:latin typeface="Arial"/>
                <a:ea typeface="Arial"/>
              </a:rPr>
              <a:t>Tijela i tv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9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1219320" cy="372960"/>
          </a:xfrm>
          <a:prstGeom prst="rect">
            <a:avLst/>
          </a:prstGeom>
          <a:ln w="0">
            <a:noFill/>
          </a:ln>
        </p:spPr>
      </p:pic>
      <p:sp>
        <p:nvSpPr>
          <p:cNvPr id="561" name="TextBox 2"/>
          <p:cNvSpPr/>
          <p:nvPr/>
        </p:nvSpPr>
        <p:spPr>
          <a:xfrm>
            <a:off x="228600" y="1600200"/>
            <a:ext cx="68580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zmjeri opseg stabla u parku ili dvorištu koristeći se ravnalom, tankim užetom i pribadač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put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ko drva omotaj uže i pričvrsti ga pribadačom. Zatim odmotaj vrpcu i postavi je na stol. Izmjeri udaljenost između rupica od pribadač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5" descr=""/>
          <p:cNvPicPr/>
          <p:nvPr/>
        </p:nvPicPr>
        <p:blipFill>
          <a:blip r:embed="rId2"/>
          <a:stretch/>
        </p:blipFill>
        <p:spPr>
          <a:xfrm>
            <a:off x="6629400" y="2895480"/>
            <a:ext cx="2190600" cy="29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3324"/>
                </a:solidFill>
                <a:latin typeface="Arial"/>
                <a:ea typeface="Arial"/>
              </a:rPr>
              <a:t>Mjerimo duljin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4648320" y="5714640"/>
            <a:ext cx="44956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3324"/>
                </a:solidFill>
                <a:latin typeface="Arial"/>
                <a:ea typeface="Arial"/>
              </a:rPr>
              <a:t>Tijela i tv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3" descr=""/>
          <p:cNvPicPr/>
          <p:nvPr/>
        </p:nvPicPr>
        <p:blipFill>
          <a:blip r:embed="rId1"/>
          <a:srcRect l="0" t="0" r="59634" b="0"/>
          <a:stretch/>
        </p:blipFill>
        <p:spPr>
          <a:xfrm>
            <a:off x="304920" y="1143000"/>
            <a:ext cx="2971800" cy="380880"/>
          </a:xfrm>
          <a:prstGeom prst="rect">
            <a:avLst/>
          </a:prstGeom>
          <a:ln w="0">
            <a:noFill/>
          </a:ln>
        </p:spPr>
      </p:pic>
      <p:sp>
        <p:nvSpPr>
          <p:cNvPr id="566" name="TextBox 4"/>
          <p:cNvSpPr/>
          <p:nvPr/>
        </p:nvSpPr>
        <p:spPr>
          <a:xfrm>
            <a:off x="619920" y="1828800"/>
            <a:ext cx="8219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olika je površina poda tvoje sobe? Kako se određuj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ako iskazujemo veličinu teritorija neke držav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ili zemljiš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6" descr=""/>
          <p:cNvPicPr/>
          <p:nvPr/>
        </p:nvPicPr>
        <p:blipFill>
          <a:blip r:embed="rId2"/>
          <a:stretch/>
        </p:blipFill>
        <p:spPr>
          <a:xfrm>
            <a:off x="762120" y="3276720"/>
            <a:ext cx="3276360" cy="246384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5" descr="legalizacija-skica"/>
          <p:cNvPicPr/>
          <p:nvPr/>
        </p:nvPicPr>
        <p:blipFill>
          <a:blip r:embed="rId3"/>
          <a:stretch/>
        </p:blipFill>
        <p:spPr>
          <a:xfrm>
            <a:off x="4572000" y="3048120"/>
            <a:ext cx="360216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c3324"/>
                </a:solidFill>
                <a:latin typeface="Arial"/>
                <a:ea typeface="Arial"/>
              </a:rPr>
              <a:t>P</a:t>
            </a:r>
            <a:r>
              <a:rPr b="0" lang="en-US" sz="3600" spc="-1" strike="noStrike">
                <a:solidFill>
                  <a:srgbClr val="fc3324"/>
                </a:solidFill>
                <a:latin typeface="Arial"/>
                <a:ea typeface="Arial"/>
              </a:rPr>
              <a:t>ovršina </a:t>
            </a:r>
            <a:r>
              <a:rPr b="0" lang="hr-HR" sz="3600" spc="-1" strike="noStrike">
                <a:solidFill>
                  <a:srgbClr val="fc3324"/>
                </a:solidFill>
                <a:latin typeface="Arial"/>
                <a:ea typeface="Arial"/>
              </a:rPr>
              <a:t> tijel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57120" y="1356840"/>
            <a:ext cx="82296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vršina – veličina površine nekog tijela ili li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nak za površinu j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snovna mjerna jedinica površine 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četvorni meta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 znak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6" descr=""/>
          <p:cNvPicPr/>
          <p:nvPr/>
        </p:nvPicPr>
        <p:blipFill>
          <a:blip r:embed="rId1"/>
          <a:stretch/>
        </p:blipFill>
        <p:spPr>
          <a:xfrm>
            <a:off x="2971800" y="4267080"/>
            <a:ext cx="38847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28240" y="838080"/>
            <a:ext cx="670572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3324"/>
                </a:solidFill>
                <a:latin typeface="Arial"/>
                <a:ea typeface="Arial"/>
              </a:rPr>
              <a:t>Manje jedinice površine su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Content Placeholder 4"/>
          <p:cNvSpPr/>
          <p:nvPr/>
        </p:nvSpPr>
        <p:spPr>
          <a:xfrm>
            <a:off x="428760" y="3286080"/>
            <a:ext cx="822960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7"/>
          <p:cNvSpPr/>
          <p:nvPr/>
        </p:nvSpPr>
        <p:spPr>
          <a:xfrm>
            <a:off x="304920" y="1523880"/>
            <a:ext cx="412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Četvorni decimet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dm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Četvorni centimet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cm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Četvorni milimet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mm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9" descr=""/>
          <p:cNvPicPr/>
          <p:nvPr/>
        </p:nvPicPr>
        <p:blipFill>
          <a:blip r:embed="rId1"/>
          <a:stretch/>
        </p:blipFill>
        <p:spPr>
          <a:xfrm>
            <a:off x="4800600" y="2209680"/>
            <a:ext cx="3405240" cy="37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 txBox="1"/>
          <p:nvPr/>
        </p:nvSpPr>
        <p:spPr>
          <a:xfrm>
            <a:off x="457200" y="99036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eća mjerna jedinica, četvorni kilometar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m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7" name="Picture 2" descr=""/>
          <p:cNvPicPr/>
          <p:nvPr/>
        </p:nvPicPr>
        <p:blipFill>
          <a:blip r:embed="rId1"/>
          <a:stretch/>
        </p:blipFill>
        <p:spPr>
          <a:xfrm>
            <a:off x="990720" y="2514600"/>
            <a:ext cx="6338880" cy="1676520"/>
          </a:xfrm>
          <a:prstGeom prst="rect">
            <a:avLst/>
          </a:prstGeom>
          <a:ln w="9360">
            <a:solidFill>
              <a:srgbClr val="63252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1676520" y="2895480"/>
            <a:ext cx="2962080" cy="200052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3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5105520" y="2819520"/>
            <a:ext cx="2295360" cy="220968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 txBox="1"/>
          <p:nvPr/>
        </p:nvSpPr>
        <p:spPr>
          <a:xfrm>
            <a:off x="457200" y="121896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ršina lika oblika pravokutnika i kvadrata računa se kao umnožak duljina njihovih stranic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 txBox="1"/>
          <p:nvPr/>
        </p:nvSpPr>
        <p:spPr>
          <a:xfrm>
            <a:off x="380880" y="1676160"/>
            <a:ext cx="4191120" cy="6858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olika je površina poda sob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2" name="Picture 5" descr=""/>
          <p:cNvPicPr/>
          <p:nvPr/>
        </p:nvPicPr>
        <p:blipFill>
          <a:blip r:embed="rId1"/>
          <a:stretch/>
        </p:blipFill>
        <p:spPr>
          <a:xfrm>
            <a:off x="609480" y="2590920"/>
            <a:ext cx="3505320" cy="2428920"/>
          </a:xfrm>
          <a:prstGeom prst="rect">
            <a:avLst/>
          </a:prstGeom>
          <a:ln w="0">
            <a:noFill/>
          </a:ln>
        </p:spPr>
      </p:pic>
      <p:sp>
        <p:nvSpPr>
          <p:cNvPr id="583" name="Content Placeholder 7"/>
          <p:cNvSpPr/>
          <p:nvPr/>
        </p:nvSpPr>
        <p:spPr>
          <a:xfrm>
            <a:off x="4800600" y="2514600"/>
            <a:ext cx="34718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ješenj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A = a·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m ·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m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Slika 1" descr=""/>
          <p:cNvPicPr/>
          <p:nvPr/>
        </p:nvPicPr>
        <p:blipFill>
          <a:blip r:embed="rId2"/>
          <a:stretch/>
        </p:blipFill>
        <p:spPr>
          <a:xfrm>
            <a:off x="353880" y="1085760"/>
            <a:ext cx="1016280" cy="3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7250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c3324"/>
                </a:solidFill>
                <a:latin typeface="Arial"/>
                <a:ea typeface="Arial"/>
              </a:rPr>
              <a:t>Površina nepravilnih liko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TextBox 4"/>
          <p:cNvSpPr/>
          <p:nvPr/>
        </p:nvSpPr>
        <p:spPr>
          <a:xfrm>
            <a:off x="469800" y="2000160"/>
            <a:ext cx="663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Dobivena površina lista je približna vrijedn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Box 5"/>
          <p:cNvSpPr/>
          <p:nvPr/>
        </p:nvSpPr>
        <p:spPr>
          <a:xfrm>
            <a:off x="281520" y="3714840"/>
            <a:ext cx="372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površina svakoga kvadratić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0, 5 cm · 0, 5 cm = 0, 25 cm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Content Placeholder 6" descr=""/>
          <p:cNvPicPr/>
          <p:nvPr/>
        </p:nvPicPr>
        <p:blipFill>
          <a:blip r:embed="rId1"/>
          <a:stretch/>
        </p:blipFill>
        <p:spPr>
          <a:xfrm>
            <a:off x="4800600" y="2590920"/>
            <a:ext cx="342900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9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1219320" cy="372960"/>
          </a:xfrm>
          <a:prstGeom prst="rect">
            <a:avLst/>
          </a:prstGeom>
          <a:ln w="0">
            <a:noFill/>
          </a:ln>
        </p:spPr>
      </p:pic>
      <p:sp>
        <p:nvSpPr>
          <p:cNvPr id="590" name="TextBox 2"/>
          <p:cNvSpPr/>
          <p:nvPr/>
        </p:nvSpPr>
        <p:spPr>
          <a:xfrm>
            <a:off x="228600" y="160020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tisni dlan na papir i iscrtaj njegove kon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dredi  približnu vrijednost površine dla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4" descr=""/>
          <p:cNvPicPr/>
          <p:nvPr/>
        </p:nvPicPr>
        <p:blipFill>
          <a:blip r:embed="rId2"/>
          <a:stretch/>
        </p:blipFill>
        <p:spPr>
          <a:xfrm>
            <a:off x="3886200" y="3124080"/>
            <a:ext cx="2471760" cy="25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3" descr=""/>
          <p:cNvPicPr/>
          <p:nvPr/>
        </p:nvPicPr>
        <p:blipFill>
          <a:blip r:embed="rId1"/>
          <a:srcRect l="0" t="0" r="59634" b="0"/>
          <a:stretch/>
        </p:blipFill>
        <p:spPr>
          <a:xfrm>
            <a:off x="304920" y="1143000"/>
            <a:ext cx="2971800" cy="380880"/>
          </a:xfrm>
          <a:prstGeom prst="rect">
            <a:avLst/>
          </a:prstGeom>
          <a:ln w="0">
            <a:noFill/>
          </a:ln>
        </p:spPr>
      </p:pic>
      <p:sp>
        <p:nvSpPr>
          <p:cNvPr id="518" name="TextBox 4"/>
          <p:cNvSpPr/>
          <p:nvPr/>
        </p:nvSpPr>
        <p:spPr>
          <a:xfrm>
            <a:off x="642600" y="1828800"/>
            <a:ext cx="5496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Što je dulji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žemo li duljinu izraziti samo broj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olika je tvoja visi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5" descr=""/>
          <p:cNvPicPr/>
          <p:nvPr/>
        </p:nvPicPr>
        <p:blipFill>
          <a:blip r:embed="rId2"/>
          <a:stretch/>
        </p:blipFill>
        <p:spPr>
          <a:xfrm>
            <a:off x="5029200" y="3200400"/>
            <a:ext cx="268596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Box 3"/>
          <p:cNvSpPr/>
          <p:nvPr/>
        </p:nvSpPr>
        <p:spPr>
          <a:xfrm>
            <a:off x="563760" y="1600200"/>
            <a:ext cx="83815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Što je duljin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Što znači izmjeriti duljin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oje se još mjerne jedinice uz metar rabe za mjerenje duljin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avedi barem tri fizikalne veličin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Izmjeri debljinu jedne vlasi k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Izmjerite duljinu udžbenika i ispravno zapišite izmjereni podata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koristeći se znakom za duljinu kao fizikalnom veličinom 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odgovarajućom  mjernom jedinic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Izmjeri ravnalom duljinu i širinu stranice ovog udžbenika te izračunaj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njezinu  površin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Slika 2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34005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54040" y="740880"/>
            <a:ext cx="8229600" cy="84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c3324"/>
                </a:solidFill>
                <a:latin typeface="Arial"/>
                <a:ea typeface="Arial"/>
              </a:rPr>
              <a:t>Duljina tijel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356760" y="1356840"/>
            <a:ext cx="848196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Duljin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snovna fiz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aln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veličina kojom označavam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udaljenost između krajnjih točaka tijela kojeg mjeri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Oznake za duljinu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l (a,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2" name="Group 5"/>
          <p:cNvGrpSpPr/>
          <p:nvPr/>
        </p:nvGrpSpPr>
        <p:grpSpPr>
          <a:xfrm>
            <a:off x="2819520" y="4038480"/>
            <a:ext cx="3200400" cy="2056680"/>
            <a:chOff x="2819520" y="4038480"/>
            <a:chExt cx="3200400" cy="2056680"/>
          </a:xfrm>
        </p:grpSpPr>
        <p:pic>
          <p:nvPicPr>
            <p:cNvPr id="523" name="Picture 4" descr=""/>
            <p:cNvPicPr/>
            <p:nvPr/>
          </p:nvPicPr>
          <p:blipFill>
            <a:blip r:embed="rId1"/>
            <a:stretch/>
          </p:blipFill>
          <p:spPr>
            <a:xfrm>
              <a:off x="2819520" y="4038480"/>
              <a:ext cx="3200400" cy="165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TextBox 8"/>
            <p:cNvSpPr/>
            <p:nvPr/>
          </p:nvSpPr>
          <p:spPr>
            <a:xfrm>
              <a:off x="3032640" y="5726880"/>
              <a:ext cx="275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Calibri"/>
                </a:rPr>
                <a:t>Pravilno odčitavanje dulj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6520" y="762120"/>
            <a:ext cx="8229600" cy="9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c3324"/>
                </a:solidFill>
                <a:latin typeface="Arial"/>
                <a:ea typeface="Arial"/>
              </a:rPr>
              <a:t>Fizi</a:t>
            </a:r>
            <a:r>
              <a:rPr b="0" lang="en-US" sz="3600" spc="-1" strike="noStrike">
                <a:solidFill>
                  <a:srgbClr val="fc3324"/>
                </a:solidFill>
                <a:latin typeface="Arial"/>
                <a:ea typeface="Arial"/>
              </a:rPr>
              <a:t>kalna</a:t>
            </a:r>
            <a:r>
              <a:rPr b="0" lang="hr-HR" sz="3600" spc="-1" strike="noStrike">
                <a:solidFill>
                  <a:srgbClr val="fc3324"/>
                </a:solidFill>
                <a:latin typeface="Arial"/>
                <a:ea typeface="Arial"/>
              </a:rPr>
              <a:t> veličina i mjerenj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457200" y="1600200"/>
            <a:ext cx="822960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Fiz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aln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veličin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Svako svojstvo tijela ili tvari koje se može mjeri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Content Placeholder 4"/>
          <p:cNvSpPr/>
          <p:nvPr/>
        </p:nvSpPr>
        <p:spPr>
          <a:xfrm>
            <a:off x="428760" y="3286080"/>
            <a:ext cx="822960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Content Placeholder 4"/>
          <p:cNvSpPr/>
          <p:nvPr/>
        </p:nvSpPr>
        <p:spPr>
          <a:xfrm>
            <a:off x="500040" y="3357720"/>
            <a:ext cx="849168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Mjere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7960" indent="-294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Postupak određivanja vrijednosti neke fiz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alne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velič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96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457200" y="99036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Duljinu tijela izražavamo brojčanom vrijednošću i mjernom jedinicom dulj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0" name="Picture 5" descr=""/>
          <p:cNvPicPr/>
          <p:nvPr/>
        </p:nvPicPr>
        <p:blipFill>
          <a:blip r:embed="rId1"/>
          <a:srcRect l="0" t="32939" r="0" b="0"/>
          <a:stretch/>
        </p:blipFill>
        <p:spPr>
          <a:xfrm>
            <a:off x="2476440" y="2209680"/>
            <a:ext cx="3857760" cy="1785960"/>
          </a:xfrm>
          <a:prstGeom prst="rect">
            <a:avLst/>
          </a:prstGeom>
          <a:ln w="0">
            <a:noFill/>
          </a:ln>
        </p:spPr>
      </p:pic>
      <p:sp>
        <p:nvSpPr>
          <p:cNvPr id="531" name="TextBox 5"/>
          <p:cNvSpPr/>
          <p:nvPr/>
        </p:nvSpPr>
        <p:spPr>
          <a:xfrm>
            <a:off x="3262320" y="3924360"/>
            <a:ext cx="25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= 6,7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2" name="Straight Arrow Connector 7"/>
          <p:cNvCxnSpPr/>
          <p:nvPr/>
        </p:nvCxnSpPr>
        <p:spPr>
          <a:xfrm flipH="1">
            <a:off x="2547720" y="4352760"/>
            <a:ext cx="786240" cy="57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33" name="Straight Arrow Connector 8"/>
          <p:cNvCxnSpPr/>
          <p:nvPr/>
        </p:nvCxnSpPr>
        <p:spPr>
          <a:xfrm>
            <a:off x="4976640" y="4424400"/>
            <a:ext cx="85824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34" name="Straight Arrow Connector 9"/>
          <p:cNvCxnSpPr/>
          <p:nvPr/>
        </p:nvCxnSpPr>
        <p:spPr>
          <a:xfrm>
            <a:off x="4118400" y="4495320"/>
            <a:ext cx="143640" cy="78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5" name="TextBox 16"/>
          <p:cNvSpPr/>
          <p:nvPr/>
        </p:nvSpPr>
        <p:spPr>
          <a:xfrm>
            <a:off x="542880" y="4952880"/>
            <a:ext cx="2844720" cy="459720"/>
          </a:xfrm>
          <a:prstGeom prst="rect">
            <a:avLst/>
          </a:prstGeom>
          <a:solidFill>
            <a:srgbClr val="fde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znak fizikalne velič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Box 17"/>
          <p:cNvSpPr/>
          <p:nvPr/>
        </p:nvSpPr>
        <p:spPr>
          <a:xfrm>
            <a:off x="3681360" y="5334120"/>
            <a:ext cx="2571840" cy="459720"/>
          </a:xfrm>
          <a:prstGeom prst="rect">
            <a:avLst/>
          </a:prstGeom>
          <a:solidFill>
            <a:srgbClr val="fde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brojčana vrijed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18"/>
          <p:cNvSpPr/>
          <p:nvPr/>
        </p:nvSpPr>
        <p:spPr>
          <a:xfrm>
            <a:off x="6131160" y="4567320"/>
            <a:ext cx="2093400" cy="459720"/>
          </a:xfrm>
          <a:prstGeom prst="rect">
            <a:avLst/>
          </a:prstGeom>
          <a:solidFill>
            <a:srgbClr val="fde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mjerna jedi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356760" y="928440"/>
            <a:ext cx="848196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Meta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Jedinica duljine (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Temeljna jedinica Međunarodnog sustava jedinica (S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9" name="Picture 4" descr="metre-kilo_250"/>
          <p:cNvPicPr/>
          <p:nvPr/>
        </p:nvPicPr>
        <p:blipFill>
          <a:blip r:embed="rId1"/>
          <a:stretch/>
        </p:blipFill>
        <p:spPr>
          <a:xfrm>
            <a:off x="762120" y="3200400"/>
            <a:ext cx="2857320" cy="189540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5" descr="800PX-~1"/>
          <p:cNvPicPr/>
          <p:nvPr/>
        </p:nvPicPr>
        <p:blipFill>
          <a:blip r:embed="rId2"/>
          <a:stretch/>
        </p:blipFill>
        <p:spPr>
          <a:xfrm>
            <a:off x="4648320" y="3200400"/>
            <a:ext cx="2666880" cy="2000160"/>
          </a:xfrm>
          <a:prstGeom prst="rect">
            <a:avLst/>
          </a:prstGeom>
          <a:ln w="0">
            <a:noFill/>
          </a:ln>
        </p:spPr>
      </p:pic>
      <p:sp>
        <p:nvSpPr>
          <p:cNvPr id="541" name="Text Box 6"/>
          <p:cNvSpPr/>
          <p:nvPr/>
        </p:nvSpPr>
        <p:spPr>
          <a:xfrm>
            <a:off x="756360" y="5562720"/>
            <a:ext cx="253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Etalon metra i kilogr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u muzeju za mjere i utege u Pariz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7"/>
          <p:cNvSpPr/>
          <p:nvPr/>
        </p:nvSpPr>
        <p:spPr>
          <a:xfrm>
            <a:off x="4565520" y="5562720"/>
            <a:ext cx="2529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Etalon metra ucrtan na zidu u ulic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Vaugirard u Parizu iz 1796. god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c3324"/>
                </a:solidFill>
                <a:latin typeface="Arial"/>
                <a:ea typeface="Arial"/>
              </a:rPr>
              <a:t>Predmetci za tvorbu mjernih jedin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50004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mili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metar ( mm) – tisućiti dio met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1mm = 0, 001 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centi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metar ( cm ) – stoti dio met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1cm = 0, 01 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deci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metar   ( dm ) – deseti dio met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1 dm = 0,1 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kilo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metar     ( km) – tisuću meta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1 km = 1 000 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5" name="Picture 4" descr=""/>
          <p:cNvPicPr/>
          <p:nvPr/>
        </p:nvPicPr>
        <p:blipFill>
          <a:blip r:embed="rId1"/>
          <a:stretch/>
        </p:blipFill>
        <p:spPr>
          <a:xfrm>
            <a:off x="4889520" y="5410080"/>
            <a:ext cx="425448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6969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3324"/>
                </a:solidFill>
                <a:latin typeface="Arial"/>
                <a:ea typeface="Arial"/>
              </a:rPr>
              <a:t>Iz povijesti fizik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7" name="Group 7"/>
          <p:cNvGrpSpPr/>
          <p:nvPr/>
        </p:nvGrpSpPr>
        <p:grpSpPr>
          <a:xfrm>
            <a:off x="214200" y="1357200"/>
            <a:ext cx="7737840" cy="3248280"/>
            <a:chOff x="214200" y="1357200"/>
            <a:chExt cx="7737840" cy="3248280"/>
          </a:xfrm>
        </p:grpSpPr>
        <p:pic>
          <p:nvPicPr>
            <p:cNvPr id="548" name="Picture 5" descr=""/>
            <p:cNvPicPr/>
            <p:nvPr/>
          </p:nvPicPr>
          <p:blipFill>
            <a:blip r:embed="rId1"/>
            <a:stretch/>
          </p:blipFill>
          <p:spPr>
            <a:xfrm>
              <a:off x="214200" y="1357200"/>
              <a:ext cx="2988000" cy="324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TextBox 5"/>
            <p:cNvSpPr/>
            <p:nvPr/>
          </p:nvSpPr>
          <p:spPr>
            <a:xfrm>
              <a:off x="3314160" y="1785600"/>
              <a:ext cx="46378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ri Egipat – jedinice dulj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uljina faraonova lakta i stopal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0" name="Picture 6" descr=""/>
          <p:cNvPicPr/>
          <p:nvPr/>
        </p:nvPicPr>
        <p:blipFill>
          <a:blip r:embed="rId2"/>
          <a:stretch/>
        </p:blipFill>
        <p:spPr>
          <a:xfrm>
            <a:off x="4929120" y="3643200"/>
            <a:ext cx="3648240" cy="2697120"/>
          </a:xfrm>
          <a:prstGeom prst="rect">
            <a:avLst/>
          </a:prstGeom>
          <a:ln w="0">
            <a:noFill/>
          </a:ln>
        </p:spPr>
      </p:pic>
      <p:sp>
        <p:nvSpPr>
          <p:cNvPr id="551" name="TextBox 8"/>
          <p:cNvSpPr/>
          <p:nvPr/>
        </p:nvSpPr>
        <p:spPr>
          <a:xfrm>
            <a:off x="1771200" y="5029200"/>
            <a:ext cx="327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Engleski kralj Henrik 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9"/>
          <p:cNvSpPr/>
          <p:nvPr/>
        </p:nvSpPr>
        <p:spPr>
          <a:xfrm>
            <a:off x="6774840" y="43578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Y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9760" y="58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c3324"/>
                </a:solidFill>
                <a:latin typeface="Arial"/>
                <a:ea typeface="Arial"/>
              </a:rPr>
              <a:t>Uređaji i pomagala za mjerenje dulj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4" name="Picture 5" descr="metar stolarski"/>
          <p:cNvPicPr/>
          <p:nvPr/>
        </p:nvPicPr>
        <p:blipFill>
          <a:blip r:embed="rId1"/>
          <a:stretch/>
        </p:blipFill>
        <p:spPr>
          <a:xfrm>
            <a:off x="380880" y="1447920"/>
            <a:ext cx="2413080" cy="251460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9" descr="97M"/>
          <p:cNvPicPr/>
          <p:nvPr/>
        </p:nvPicPr>
        <p:blipFill>
          <a:blip r:embed="rId2"/>
          <a:stretch/>
        </p:blipFill>
        <p:spPr>
          <a:xfrm>
            <a:off x="4343400" y="2386080"/>
            <a:ext cx="4800600" cy="348768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6" descr="teodolit"/>
          <p:cNvPicPr/>
          <p:nvPr/>
        </p:nvPicPr>
        <p:blipFill>
          <a:blip r:embed="rId3"/>
          <a:stretch/>
        </p:blipFill>
        <p:spPr>
          <a:xfrm>
            <a:off x="6862680" y="1828800"/>
            <a:ext cx="2019240" cy="297648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10" descr="krojacki metar"/>
          <p:cNvPicPr/>
          <p:nvPr/>
        </p:nvPicPr>
        <p:blipFill>
          <a:blip r:embed="rId4"/>
          <a:stretch/>
        </p:blipFill>
        <p:spPr>
          <a:xfrm>
            <a:off x="1828800" y="4552920"/>
            <a:ext cx="1447920" cy="108576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11" descr="subler"/>
          <p:cNvPicPr/>
          <p:nvPr/>
        </p:nvPicPr>
        <p:blipFill>
          <a:blip r:embed="rId5"/>
          <a:stretch/>
        </p:blipFill>
        <p:spPr>
          <a:xfrm>
            <a:off x="3276720" y="2895480"/>
            <a:ext cx="1892160" cy="189252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8" descr="55M"/>
          <p:cNvPicPr/>
          <p:nvPr/>
        </p:nvPicPr>
        <p:blipFill>
          <a:blip r:embed="rId6"/>
          <a:stretch/>
        </p:blipFill>
        <p:spPr>
          <a:xfrm>
            <a:off x="3200400" y="1828800"/>
            <a:ext cx="153684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8T11:38:40Z</dcterms:created>
  <dc:creator>Slavko</dc:creator>
  <dc:description/>
  <dc:language>en-US</dc:language>
  <cp:lastModifiedBy>Tomislav Dumančić</cp:lastModifiedBy>
  <dcterms:modified xsi:type="dcterms:W3CDTF">2019-09-17T07:53:37Z</dcterms:modified>
  <cp:revision>49</cp:revision>
  <dc:subject/>
  <dc:title>Slide 1</dc:title>
</cp:coreProperties>
</file>